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1508D-9832-4AEB-8223-5941D9EB14C6}"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B10ECC-A19E-49AF-8ECF-920266F01FA2}"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type="sldImg"/>
          </p:nvPr>
        </p:nvSpPr>
        <p:spPr>
          <a:xfrm>
            <a:off x="1371600" y="763560"/>
            <a:ext cx="5029200" cy="3772080"/>
          </a:xfrm>
          <a:prstGeom prst="rect">
            <a:avLst/>
          </a:prstGeom>
          <a:ln w="0">
            <a:noFill/>
          </a:ln>
        </p:spPr>
      </p:sp>
      <p:sp>
        <p:nvSpPr>
          <p:cNvPr id="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883225-69AB-4708-A4ED-A72B99DF1576}"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72080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The Journey of Botulinum Neurotoxins (BoNTs) and Tetanus Toxin (TeTx) into Motor Neurons. (A) Schematic of a motor neuron illustrating three main compartments: the neuromuscular junction (NMJ), the axon, and the somatodendritic compartment (SDC). (B) After infiltrating motor neurons at the NMJ, BoNTs take the local synaptic vesicle journey, translocating the proteolytic light chain (LC) from acidifying vesicles and causing a synaptic block. TeTx, by contrast, is sorted to retrograde transport carriers to reach the SDC of motor neurons. Through dendritic release followed by endocytosis, TeTx enters upstream synapses (US) by crossing into inhibitory interneurons, where TeTx-LC is released and blocks synaptic transmission. Whether TeTx propagates further up from these primary interneurons remains to be show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67192F-19AE-436C-A241-1275A98FB4C8}"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18478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Molecular Premise for Neuron Specificity and Activity-Dependent Uptake of Clostridial Neurotoxins (CNTs). (A) Crystal structure of botulinum neurotoxin type A (BoNT/A) (top). The C-terminal binding domain (HC) adopts a β-trefoil fold to bind the membrane surface of neurons while the N-terminal jelly-roll motif is proposed to interact with the translocation domain (HN). The translocation domain is represented by a pair of long helices reminiscent of a viral coiled-coil motif and a long loop (or translocation belt) that wraps around and protects the catalytically active site. The light chain (LC) contains the conserved HExxH motif characteristic of zinc-dependent proteases. Structural comparison of the HCs of BoNT/A and tetanus toxin (TeTx) reveals architectural similarities (bottom). Adapted, with permission, from [71]. (B) Summary table of putative neuronal acceptors, target soluble NSF-attachment protein receptors (SNAREs), and scissile bonds for the seven BoNT serotypes plus TeTx.</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25152-D15F-44A8-B621-1CF105DE3E71}"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type="sldImg"/>
          </p:nvPr>
        </p:nvSpPr>
        <p:spPr>
          <a:xfrm>
            <a:off x="1371600" y="763560"/>
            <a:ext cx="5029200" cy="3772080"/>
          </a:xfrm>
          <a:prstGeom prst="rect">
            <a:avLst/>
          </a:prstGeom>
          <a:ln w="0">
            <a:noFill/>
          </a:ln>
        </p:spPr>
      </p:sp>
      <p:sp>
        <p:nvSpPr>
          <p:cNvPr id="74" name="PlaceHolder 2"/>
          <p:cNvSpPr>
            <a:spLocks noGrp="1"/>
          </p:cNvSpPr>
          <p:nvPr>
            <p:ph type="body"/>
          </p:nvPr>
        </p:nvSpPr>
        <p:spPr>
          <a:xfrm>
            <a:off x="777960" y="4776480"/>
            <a:ext cx="6216480" cy="2873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A Platform for Targeting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Motor Neurons (MNs) with Functional Validation. (A) Schematic of core streptavidin (CS)-TeTIM tailored for targeted delivery of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rat spinal cord MNs (left). CS-TeTIM was produced through the fusion of CS and detoxified tetanus toxin (TeTx) (E234A point mutation) genes (left); a triply mutated (R179T, R182T, and R198T)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was cloned in a pWPT lentiviral vector (right). After biotinylation (BNT) of lentiviral particles and conjugation (CJ) to CS-TeTIM, the targeted material was injected into rat tongue or forelimb triceps muscle. (B) Representative confocal microscopy images of CS at the neuromuscular junction (NMJ) (left) and spinal cord MNs (right) of the rat. NMJs were visualized by injection of rhodamine-labeled α-BuTX in the lateral quadrant of the tongue. The presence of CS in NMJs (white arrows) was detected 8h after injection of CS-HC(TeTx) or CS-TeTIM in the same location, by immunohistochemistry. Antistreptavidin monoclonal antibody followed by AlexaFluor 594-labeled secondary antibody was used for detection of CS in NMJs while its presence in MNs of the cervical spinal cord enlargement was verified with double staining using the MN marker choline acetyltransferase (ChAT). AlexaFluor 488-labeled secondary antibody was used to develop ChAT staining and for visualization of MNs. Small inset pairs show enlarged segments of the NMJ or a single representative MN in green and red channels. Bar, 30μm. (C) Typical inhibitory and excitatory post-synaptic currents (IPSCs and EPSCs) recorded in cervical MNs from control or botulinum neurotoxin type A (BoNT/A)-treated spinal cord slices of rat expressing CS-TeTIM-targeted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6 weeks post-injection of targeted viral particles). Note that the frequency of EPSCs is unaffected by BoNT/A treatment. Adapted, with permission, from [9].</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360360" y="1260360"/>
            <a:ext cx="8640720" cy="1787760"/>
          </a:xfrm>
          <a:prstGeom prst="rect">
            <a:avLst/>
          </a:prstGeom>
          <a:noFill/>
          <a:ln w="0">
            <a:noFill/>
          </a:ln>
        </p:spPr>
        <p:style>
          <a:lnRef idx="0"/>
          <a:fillRef idx="0"/>
          <a:effectRef idx="0"/>
          <a:fontRef idx="minor"/>
        </p:style>
        <p:txBody>
          <a:bodyPr lIns="90000" rIns="90000" tIns="45000" bIns="45000" anchor="t">
            <a:noAutofit/>
          </a:bodyPr>
          <a:p>
            <a:pPr algn="ctr">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Circumventing Brain Barriers: Nanovehicles for Retroaxonal Therapeutic Delivery</a:t>
            </a:r>
            <a:r>
              <a:rPr b="0" lang="en-US" sz="1700" spc="-1" strike="noStrike">
                <a:solidFill>
                  <a:srgbClr val="ffffff"/>
                </a:solidFill>
                <a:latin typeface="Arial"/>
              </a:rPr>
              <a:t> </a:t>
            </a:r>
            <a:endParaRPr b="0" lang="en-US" sz="1700" spc="-1" strike="noStrike">
              <a:solidFill>
                <a:srgbClr val="ffffff"/>
              </a:solidFill>
              <a:latin typeface="Arial"/>
            </a:endParaRPr>
          </a:p>
          <a:p>
            <a:pPr algn="ctr">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Saak V. Ovsepian, Valerie B. O’Leary, Vasilis Ntziachristos, J. Oliver Dolly</a:t>
            </a:r>
            <a:r>
              <a:rPr b="0" lang="en-US" sz="1100" spc="-1" strike="noStrike">
                <a:solidFill>
                  <a:srgbClr val="ffffff"/>
                </a:solidFill>
                <a:latin typeface="Arial"/>
              </a:rPr>
              <a:t> </a:t>
            </a:r>
            <a:endParaRPr b="0" lang="en-US" sz="11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Trends in Molecular Medicine</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molmed.2016.09.004</a:t>
            </a:r>
            <a:endParaRPr b="0" lang="en-US" sz="1000" spc="-1" strike="noStrike">
              <a:solidFill>
                <a:srgbClr val="ffffff"/>
              </a:solidFill>
              <a:latin typeface="Arial"/>
            </a:endParaRPr>
          </a:p>
        </p:txBody>
      </p:sp>
      <p:sp>
        <p:nvSpPr>
          <p:cNvPr id="46" name="Text Box 2"/>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47" name="Picture 3" descr=""/>
          <p:cNvPicPr/>
          <p:nvPr/>
        </p:nvPicPr>
        <p:blipFill>
          <a:blip r:embed="rId1"/>
          <a:stretch/>
        </p:blipFill>
        <p:spPr>
          <a:xfrm>
            <a:off x="79200" y="6213600"/>
            <a:ext cx="708120" cy="49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1 </a:t>
            </a:r>
            <a:endParaRPr b="0" lang="en-US" sz="1400" spc="-1" strike="noStrike">
              <a:solidFill>
                <a:srgbClr val="ffffff"/>
              </a:solidFill>
              <a:latin typeface="Arial"/>
            </a:endParaRPr>
          </a:p>
        </p:txBody>
      </p:sp>
      <p:pic>
        <p:nvPicPr>
          <p:cNvPr id="49" name="Picture 2" descr=""/>
          <p:cNvPicPr/>
          <p:nvPr/>
        </p:nvPicPr>
        <p:blipFill>
          <a:blip r:embed="rId1"/>
          <a:stretch/>
        </p:blipFill>
        <p:spPr>
          <a:xfrm>
            <a:off x="2359080" y="762120"/>
            <a:ext cx="4476600" cy="4984560"/>
          </a:xfrm>
          <a:prstGeom prst="rect">
            <a:avLst/>
          </a:prstGeom>
          <a:ln w="0">
            <a:noFill/>
          </a:ln>
        </p:spPr>
      </p:pic>
      <p:sp>
        <p:nvSpPr>
          <p:cNvPr id="5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2 </a:t>
            </a:r>
            <a:endParaRPr b="0" lang="en-US" sz="1400" spc="-1" strike="noStrike">
              <a:solidFill>
                <a:srgbClr val="ffffff"/>
              </a:solidFill>
              <a:latin typeface="Arial"/>
            </a:endParaRPr>
          </a:p>
        </p:txBody>
      </p:sp>
      <p:pic>
        <p:nvPicPr>
          <p:cNvPr id="54" name="Picture 2" descr=""/>
          <p:cNvPicPr/>
          <p:nvPr/>
        </p:nvPicPr>
        <p:blipFill>
          <a:blip r:embed="rId1"/>
          <a:stretch/>
        </p:blipFill>
        <p:spPr>
          <a:xfrm>
            <a:off x="1422360" y="1609560"/>
            <a:ext cx="6350040" cy="3289320"/>
          </a:xfrm>
          <a:prstGeom prst="rect">
            <a:avLst/>
          </a:prstGeom>
          <a:ln w="0">
            <a:noFill/>
          </a:ln>
        </p:spPr>
      </p:pic>
      <p:sp>
        <p:nvSpPr>
          <p:cNvPr id="55"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6"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7"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3 </a:t>
            </a:r>
            <a:endParaRPr b="0" lang="en-US" sz="1400" spc="-1" strike="noStrike">
              <a:solidFill>
                <a:srgbClr val="ffffff"/>
              </a:solidFill>
              <a:latin typeface="Arial"/>
            </a:endParaRPr>
          </a:p>
        </p:txBody>
      </p:sp>
      <p:pic>
        <p:nvPicPr>
          <p:cNvPr id="59" name="Picture 2" descr=""/>
          <p:cNvPicPr/>
          <p:nvPr/>
        </p:nvPicPr>
        <p:blipFill>
          <a:blip r:embed="rId1"/>
          <a:stretch/>
        </p:blipFill>
        <p:spPr>
          <a:xfrm>
            <a:off x="1422360" y="1409760"/>
            <a:ext cx="6350040" cy="3689280"/>
          </a:xfrm>
          <a:prstGeom prst="rect">
            <a:avLst/>
          </a:prstGeom>
          <a:ln w="0">
            <a:noFill/>
          </a:ln>
        </p:spPr>
      </p:pic>
      <p:sp>
        <p:nvSpPr>
          <p:cNvPr id="6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6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6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uner, Katrin</dc:creator>
  <dc:description/>
  <dc:language>en-US</dc:language>
  <cp:lastModifiedBy>katrin.rauner</cp:lastModifiedBy>
  <dcterms:modified xsi:type="dcterms:W3CDTF">2016-10-12T08:57:53Z</dcterms:modified>
  <cp:revision>1</cp:revision>
  <dc:subject/>
  <dc:title>PowerPoint-Präsentation</dc:title>
</cp:coreProperties>
</file>