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F3FD9-9CEE-4C7E-ACB7-C0F2AB13F4D3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221D2-F2B9-431B-A4C1-948A4B89A6C6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9BE68-2EBF-4687-961E-085CDDE87ADE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Prisma 2009 flow diagra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BE43F-60F8-4E19-9096-87B799A6B347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Philips quality appraisal—absolute numbers of fulfilled item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08A09-9777-498F-8168-4B906463E7C3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Caro quality appraisal—absolute number of fulfilled item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60360" y="1260360"/>
            <a:ext cx="8640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Economic Evaluations of Multicomponent Disease Management Programs with Markov Models: A Systematic Review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Florian Kirsch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jval.2016.07.0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69920" y="762120"/>
            <a:ext cx="5254920" cy="4984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2360" y="1584360"/>
            <a:ext cx="6350040" cy="33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22360" y="1581120"/>
            <a:ext cx="6350040" cy="334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uner, Katrin</dc:creator>
  <dc:description/>
  <dc:language>en-US</dc:language>
  <cp:lastModifiedBy>katrin.rauner</cp:lastModifiedBy>
  <dcterms:modified xsi:type="dcterms:W3CDTF">2016-10-17T10:27:08Z</dcterms:modified>
  <cp:revision>1</cp:revision>
  <dc:subject/>
  <dc:title>PowerPoint-Präsentation</dc:title>
</cp:coreProperties>
</file>